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726-0053-4DB6-91FE-8B3405B5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BBC-E250-4C92-8B9A-E45AC58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8F4-9BB9-487D-9E68-308B4389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F6F-154F-43C9-BC34-89285555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F1A-1475-4E66-9AAE-A613B4E3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7615-2A2F-4AB8-87DA-24BF7C93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CC15-C951-4983-9FDB-0A1E7D1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1840-0EC4-47EB-979E-0549138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84B8-1060-4E81-ADF8-862D89D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94A-BEF8-41D0-9F9B-8673C56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DF5-115E-4B40-A0C7-FBA201F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CD9-516B-4C45-BE6C-CF2CF961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5D3-6915-40F4-B9C8-A980766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F59-B1CF-4357-8BBD-A1679BF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D8C9-6F77-4F9E-A9D8-FDF1763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D1F-98A7-4FE5-9DAC-359C770C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5878-01A1-428E-8B76-D0B20147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8C191-9354-4D2B-A721-19724182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2D878-6666-413D-892F-D221A8BF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42951-BAAB-4E38-BEDD-93622CB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884B6-BF32-4D57-A7D8-174AF28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37AD8-291D-4234-AD62-979F035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2C-2329-42F8-9C43-4AAC550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0721E-08FD-4E4F-B037-ED2696F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5B992-42BE-4AE1-8824-A9E12AF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2AC88-DE94-4E0B-BF52-BD00781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542C0-A557-4FB5-88E3-B2FFB83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FC201-CD57-425D-8428-A437D8DB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D3904-E6BD-4465-809A-3AE17345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4AAB2-7383-4D77-A85D-69D5D2A8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BE723-74B0-4C17-A170-B011E2E2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8C98C-EB87-4974-A5DF-E7A9ADD5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533C0-D71E-4812-8849-BE9BD0E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7F0-2B55-4ECB-A29C-44AD2CE0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B6D08-FE45-4DD6-AFB8-66FA5EF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6D603-128B-42B1-AAD5-21211A9F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7254B-4627-4D15-95D1-BE5AABC9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76D90-215F-42D3-8A53-C24792F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CE424-2EEA-43C8-AD4B-3E3AD1C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893DF-FC56-4ABF-AEAC-9EBCB0C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188A5-3E54-4FFF-9E35-5F1F9F0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2052D-EEAC-4670-8C19-F1F0428C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A56B0-6436-4AA8-83D7-EDE36F7A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7CD03-60F3-497F-A1A1-D95F78EF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0AE-F07B-416E-AD87-DA06411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BA590-5860-41A1-9277-1295194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2CA17-1ADB-4CD0-8C42-61162EB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CF352-343D-4CED-B071-731BB30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74D69-3D9C-413D-944A-7877B3FC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31140-A899-4F46-8C8B-8E056E6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B408C-1EEB-4FFA-945C-9CD4BD3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01E51-8515-4855-B49D-1C2CFE0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422BA-0BFE-4912-B9B3-F2B46E5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EFF40-2C80-4A9F-AE42-90DFA7F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F0D9A-CD6D-41E2-A0F6-2EE6F0F6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546-46BB-450F-BC56-3E3F9E2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4C847-9556-48A5-8B69-ED4B573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B3AF-1097-459D-A80A-5A2076DE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87AFB-2735-426A-B403-C6EBB04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B03E-DB17-4118-B38A-818C98C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383D-9A1C-4684-9213-42FE7FF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7518-0AB6-43D0-841B-BA199F3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8A1D-CF3A-4304-9A24-E69558A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FA58A-3F3A-41DA-8D35-A27E400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D1DD-E276-4A82-83D4-A610A0D2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C2B1-28F8-4696-8ADC-453626C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4C6-AF1C-4C36-AEC4-7D4E07A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09FA-7471-4385-8C08-77D3631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8EB89-0708-411F-8F83-C7F5357E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F693-F9A0-42D5-A8A1-098419C3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9D5CB-A5ED-4789-B5D2-7E1250E2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B742E-6EC1-49E1-9357-2F629DD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8B42D-D804-472C-A12D-335017C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931F9-7C33-4593-A7B7-3BB5008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9CDB4-23F0-4CF5-BEC0-6128A25F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2D149-848B-4F0F-9603-D6822F5C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F2C1B-33E1-42E1-9BBD-4A756C0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9F1-4973-4C99-83FE-A941ED0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58707-31EB-447B-8B5A-3FCC6F1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E3BF6-7523-4CC9-9C98-10213E4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D6C44-9FED-446F-98C3-14FFC351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2B7BB-72D5-4709-BA9F-D2992185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EC546-749F-49E9-B707-6FF5E44E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5D80-E080-4158-B68D-9CD730AA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558A-1740-45A8-BFC4-22D9703D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F1E6B-B6D0-4EC3-8972-D6E8A7E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65B0-C988-46FB-84B2-521B995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9A52-76B2-442B-AC65-041782BA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8C2-A4E0-427D-8F8F-64E9388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3D337-1539-4637-B676-6B254B2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11ECC-371D-493C-A656-9159E7C7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7A9C-8FCC-498D-9645-267D961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CDD0-7FF9-4647-8002-C40BAD3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53E6-2556-4F9B-9869-EDB45E3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E589-3432-4E9A-B467-E88888A5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F6F7-1ADF-4222-90F2-3272303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08F-82D7-4E97-ABC5-F80629ABE9CF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3E68-1C16-4B7F-9705-7BBE5D6A9515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3716-0C96-4132-88B2-0ADF4E35F8E3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55C6-64D6-470A-A8B9-CACFDEABBABC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97C-DFEA-404D-963A-756834C8A44A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900-829E-499E-8CA9-91C6C526F04B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75D-B7A9-413E-B8C7-26F912557697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CF93-7C09-40B3-8732-ADE2554D910A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75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3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36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63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Things that were found naturally where they l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nected with spiritual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4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hared equally 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private ownership of land or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Things that were found naturally where they l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sed on 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ake it back to 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2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nected with spiritual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Specializ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hared equally 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private ownership of land or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individuals/families worked mostly for their own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private ownership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ladmin</cp:lastModifiedBy>
  <dcterms:modified xsi:type="dcterms:W3CDTF">2014-10-14T22:51:38Z</dcterms:modified>
  <cp:revision>57</cp:revision>
  <dc:subject/>
  <dc:title>Economic Empowerment</dc:title>
</cp:coreProperties>
</file>